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9B0-C652-440C-989A-E06B5BD9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ADE-5C52-4D98-B234-2BB5561A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CCF-0791-4874-B032-E73ED5ED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7D7-5511-407D-97B3-4606E57E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61C9-86B9-4F73-A5A4-8B14580F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1DCD-3A62-4552-AB98-F9FE0061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4B29-A8B5-4CAA-ABC3-CAE332DD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995E-9738-4884-8E6D-AB6FED6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93B5-3B19-4B38-A732-F6C7B826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2A2C-30C7-4066-9FFD-EEFDBA3E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40EE-11E4-4167-8E9C-D48C7219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377-130B-45E6-B2D9-4AF9D4D4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E90A-C4FA-433D-B033-DD461832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238B-5891-4FD1-848B-14540540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1E54-D5A6-4525-B19B-D4E5C97B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D47B-87F6-4B95-B601-25FC450F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D993-1447-4626-B6B2-5500D27F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88C-BE61-46BB-9F51-62165B75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8F3-2989-4F09-B270-D6DF7E64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817-BC1C-4179-BA12-E2D36A3B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F5D-08C2-4DBC-9058-6C04D9C4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3C6-8BA5-489E-9FEA-B51B1079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124-3612-4D94-90D0-298EABF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61A-3A47-4013-87BA-482A94DF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F6B7-5BBC-4488-8F82-345F6E5011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CF13-ADEE-49C1-BBF8-0BEF2CB130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ЛАНИРАЊЕ ЉУДСКИХ РЕСУРС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интерне понуде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аза података о запосленима (инвентар талената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нтитативни мето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виђање стопе флукту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па флултуац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број запослених који напушта организацију / просечан укупан број запослених у организациј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декс стабил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Марковљев метод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интерне понуде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литативни мето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ирање премешт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ирање сукцеције менаџ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Графикон сукцесије менаџер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екстерне понуде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ализа тржишта ра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онуде по занимањима и квалификаци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осна структура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а структура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графска диспер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је на тржишту 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ућности за преквалифик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склађивање понуде и тражњ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тернативни исхо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внот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ефи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фи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и за решавање де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и за решавање су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планир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дименз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литативна дим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потребна вредност планова људских рес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нтитативна дим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цизност у предвиђању траж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цизност у одређивању проду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цизност у пројектовању стопе флуктуације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ојам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ирање људских ресурс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хват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цес антиципирањ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угорочне понуде и тражње за људским ресурсима у релативно променљивим условима у организацији и ван ње, као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јачање програ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зајнираних тако да се задовоље организационе потребе за знањ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ојам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ирање људских ресурс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ширем смислу обухв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двиђање понуде и тражње за људским ресур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инисање планова актив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ре за усклађивање понуде и траж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ормулисање интегративног пл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лан практичног спровођења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Значај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ицај на буџет зарада и 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изација коришћења људских ресурса у организ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грација људских ресурса и бизнис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апређење процеса стратегијског управљања људским ресур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форма за преговоре са синдика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лементи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ски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осиоц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цеса план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оку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лан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грегат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лан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дивидуал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лан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оцес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купљање података о окруже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кстер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слови у привреди и привредној гра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хнолог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нкуренц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ржиште рада и пратећи зако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тер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Људски ресурс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труктура и процес ра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им пословањ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оцес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двиђање понуде и тражње за људским ресур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валитативни мет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вантитативни мет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склађивање понуде и траж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авање проблема де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авање проблема су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валуација и кориговање п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тражње за људским ресурс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литативни (субјективни) мет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виђање одоздо на г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виђање одозго на д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лфи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хника номиналн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тражње за људским ресурс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нтитативни методи (математички и статистичк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цио проду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/П рац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ва учења и индекс прогр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уџет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енске серија (тренд анали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шеструка регре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неарно програм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3T06:34:30Z</dcterms:modified>
  <cp:revision>140</cp:revision>
  <dc:subject/>
  <dc:title>Soft and Hard Skills Development: A Current Situation in Serbian Companies</dc:title>
</cp:coreProperties>
</file>